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948E-448B-47CA-8854-4E5997215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C8B8-B13D-4706-A4FD-5342B106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578B-4F52-40BA-A638-5F738109C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532D-4835-4BB9-99E6-B39507AA7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009F-EC73-4395-8379-1DC982E2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07DE-6689-43B7-BB00-628DEE91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C725-54A7-46B7-B5D0-04F40695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A88B-B511-4CBA-AEB7-17F931E9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6251-BCE5-4A0C-BF90-8E9916C4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5FB6-FC6D-4BCF-BF9B-21FA314B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8B7B-A997-443D-AF15-9E6ED669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4068-9850-45EE-B21E-71F1D9D1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D5E5-0F01-4DB5-9BF3-B38D9D078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484360" y="1125360"/>
            <a:ext cx="3456000" cy="3456000"/>
            <a:chOff x="2484360" y="1125360"/>
            <a:chExt cx="3456000" cy="3456000"/>
          </a:xfrm>
        </p:grpSpPr>
        <p:sp>
          <p:nvSpPr>
            <p:cNvPr id="42" name=""/>
            <p:cNvSpPr/>
            <p:nvPr/>
          </p:nvSpPr>
          <p:spPr>
            <a:xfrm>
              <a:off x="2484360" y="1125360"/>
              <a:ext cx="3456000" cy="3456000"/>
            </a:xfrm>
            <a:custGeom>
              <a:avLst/>
              <a:gdLst>
                <a:gd name="textAreaLeft" fmla="*/ 788760 w 3456000"/>
                <a:gd name="textAreaRight" fmla="*/ 2667240 w 3456000"/>
                <a:gd name="textAreaTop" fmla="*/ 788760 h 3456000"/>
                <a:gd name="textAreaBottom" fmla="*/ 2667240 h 345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2987640" y="1951200"/>
              <a:ext cx="2448000" cy="18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 txBox="1"/>
            <p:nvPr/>
          </p:nvSpPr>
          <p:spPr>
            <a:xfrm rot="18178800">
              <a:off x="3033720" y="2036520"/>
              <a:ext cx="1971720" cy="11048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8577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ＭＳ Ｐゴシック"/>
                </a:rPr>
                <a:t>サンプル画像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ＭＳ Ｐゴシック"/>
                <a:ea typeface="ＭＳ Ｐゴシック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07:08:55Z</dcterms:created>
  <dc:creator>toru</dc:creator>
  <dc:description/>
  <dc:language>en-US</dc:language>
  <cp:lastModifiedBy>urto</cp:lastModifiedBy>
  <dcterms:modified xsi:type="dcterms:W3CDTF">2008-11-27T12:38:45Z</dcterms:modified>
  <cp:revision>3</cp:revision>
  <dc:subject/>
  <dc:title>スライド 1</dc:title>
</cp:coreProperties>
</file>