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F7E-DA12-4D4F-B19B-F3D18D75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F12-C922-4975-B4D1-188A740D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7D7-5380-4749-BAC3-3DFBEBFE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862-7EEC-4B5A-92B8-9763E2EF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F7D-992E-4515-AAD7-90BDB910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34F-741A-4D7B-B2A4-9D296D01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DB8-4877-419A-82C1-B950D7F8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A8F4-62CA-4158-915B-A7EA15AB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1F6-9C9D-4DE7-8FB7-7FB3263F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4AD-CFD5-4187-8665-EE3820A0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B02-2042-4CDC-B5E9-659E602D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300-A04A-4E48-B9B4-FCC3F5A7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BDB1-6355-4232-8653-A9759BED2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484360" y="1125360"/>
            <a:ext cx="3456000" cy="3456000"/>
            <a:chOff x="2484360" y="1125360"/>
            <a:chExt cx="3456000" cy="3456000"/>
          </a:xfrm>
        </p:grpSpPr>
        <p:sp>
          <p:nvSpPr>
            <p:cNvPr id="42" name=""/>
            <p:cNvSpPr/>
            <p:nvPr/>
          </p:nvSpPr>
          <p:spPr>
            <a:xfrm>
              <a:off x="2484360" y="1125360"/>
              <a:ext cx="3456000" cy="3456000"/>
            </a:xfrm>
            <a:custGeom>
              <a:avLst/>
              <a:gdLst>
                <a:gd name="textAreaLeft" fmla="*/ 788760 w 3456000"/>
                <a:gd name="textAreaRight" fmla="*/ 2667240 w 3456000"/>
                <a:gd name="textAreaTop" fmla="*/ 788760 h 3456000"/>
                <a:gd name="textAreaBottom" fmla="*/ 2667240 h 34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987640" y="1951200"/>
              <a:ext cx="244800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 rot="18178800">
              <a:off x="3033720" y="2036520"/>
              <a:ext cx="1971720" cy="1104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8577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ＭＳ Ｐゴシック"/>
                </a:rPr>
                <a:t>サンプル画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  <a:ea typeface="ＭＳ Ｐゴシック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07:08:55Z</dcterms:created>
  <dc:creator>toru</dc:creator>
  <dc:description/>
  <dc:language>en-US</dc:language>
  <cp:lastModifiedBy>urto</cp:lastModifiedBy>
  <dcterms:modified xsi:type="dcterms:W3CDTF">2008-11-27T12:38:45Z</dcterms:modified>
  <cp:revision>3</cp:revision>
  <dc:subject/>
  <dc:title>スライド 1</dc:title>
</cp:coreProperties>
</file>